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03120" y="70344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402120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5600-81B6-4204-A049-4CB1236F9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B591-E682-44F0-AACD-7A5074626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B16-90D1-42BE-982A-5FD49974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8DF-7157-405C-9F02-AD5AE13E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420-99FA-4258-BD59-C8D856C0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F1A-F1C6-409C-AB55-60CACD2A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AB46-E4B5-431B-BBEE-239FBDE1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21B7-AFB7-4EDF-B426-C1B5E88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275-98E7-4FCB-84B0-EA9292A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0306-EFE5-4C7C-BC07-E47EDC27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B61-7A3E-4298-9279-F37317D4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775B-5B08-48F7-995B-9FE5A8FC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48FD-856F-407A-8620-905487F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ED5-B79B-4531-966A-27B3D299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F963-EA2D-4EA8-B563-D50E07D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5A48-712D-4030-96F5-F3A95DF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5A4-DC6B-4B6B-AA92-7E6E58A0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9DA-B74B-4912-8281-E2E75FF0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314-4497-459A-8B02-84E6A8EA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96DD-AAAD-489D-88FB-9A567560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4252-4160-4889-A6F6-41E3680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41A9-7561-4364-BFA0-CDE4D9C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967A-1F70-46D2-9E81-4B7C42DC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5682-68C1-4E3A-9162-13B53E76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796-71B0-4254-B537-6F0E45F2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819B-D326-4991-A3D6-31B3E894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C164-2A7D-4194-B7F4-737BECB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648B-CB60-41B3-97F5-D9E34B9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248D-DC1F-4134-9F96-52A0050D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F845-795D-4444-8A82-E86D37D8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7A39-2B03-4413-BBBF-F8618DCD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30CD-470E-4CCD-AB94-2252E03E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C1F-09FF-4044-B7F3-57F0B8D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6D7-C72A-477D-BF84-4001ED4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DAF-8F68-41BA-8098-2AB60B1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15E-F780-455A-9EF8-46F230B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19A-AACC-4CF1-9DA4-8E71701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871-9B0B-4BB9-9454-85750AF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4A1-6083-4B8B-B48F-74874B4A7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7A8-94C1-409F-AD1F-F0D4E5073B34}" type="slidenum"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Local Settings\Temporary Internet Files\Content.IE5\STEB01UR\MCj04348230000[1].png"/>
          <p:cNvPicPr/>
          <p:nvPr/>
        </p:nvPicPr>
        <p:blipFill>
          <a:blip r:embed="rId8"/>
          <a:stretch/>
        </p:blipFill>
        <p:spPr>
          <a:xfrm>
            <a:off x="8305920" y="6095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883-AD22-4955-A04F-33EA6D8F6E50}" type="slidenum"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05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FAVORITISM: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WHY DOESN’T TEACHER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ALL ON ME? 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uri A. Schmid-Snoeck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ducation 702.22-Spring 2010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fessor O’Connor-Petruso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9BFA-E448-4002-9538-2879251313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br>
              <a:rPr sz="4000"/>
            </a:br>
            <a:r>
              <a:rPr b="1" i="1" lang="en-US" sz="4000" spc="-1" strike="noStrike">
                <a:solidFill>
                  <a:srgbClr val="ea8edf"/>
                </a:solidFill>
                <a:latin typeface="Comic Sans MS"/>
              </a:rPr>
              <a:t>METHOD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Participants: X number of students in the X grade from P.S. X in Brooklyn, NY. 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The class is composed of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x number of girls of x, y, z ethnicity or race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x number of boys of x. y, z ethnicity or race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The P.S. X students belong to from X socio-economic class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The teacher/s has X number of years experience and X number of years of postgraduate education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Brush Script MT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Brush Script MT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Brush Script MT"/>
              </a:rPr>
              <a:t>	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br>
              <a:rPr sz="4000"/>
            </a:br>
            <a:r>
              <a:rPr b="1" i="1" lang="en-US" sz="4000" spc="-1" strike="noStrike">
                <a:solidFill>
                  <a:srgbClr val="ea8edf"/>
                </a:solidFill>
                <a:latin typeface="Comic Sans MS"/>
              </a:rPr>
              <a:t>INSTRUMENTS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NYC Department of Education report card to determine demographic  and economic status of P.S. X students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Consent form for the principal of P.S. X 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Form to document observation &amp; student/teacher comments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Teacher survey 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br>
              <a:rPr sz="4000"/>
            </a:br>
            <a:r>
              <a:rPr b="1" i="1" lang="en-US" sz="4000" spc="-1" strike="noStrike">
                <a:solidFill>
                  <a:srgbClr val="ea8edf"/>
                </a:solidFill>
                <a:latin typeface="Comic Sans MS"/>
              </a:rPr>
              <a:t>EXPERIMENTAL DESIGN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Researcher to observe class responses elicited after a read-aloud.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Document the following: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Seating arrangement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How students are called upon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Brush Script MT"/>
              </a:rPr>
              <a:t>i.e. Arbitrary teacher choice or random system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Brush Script MT"/>
              </a:rPr>
              <a:t>Do they call out; are all treated the same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Student gender, ethnicity or race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Addi-Raccah, A., &amp; Arviv-Elyashiv, R.  (2008).  Parent Empowerment and Teacher Professionalism: Teachers’ Perspectiv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Urban Education, 43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3), 394-415.                   doi: 10.1177/0042085907305037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Assouline, S.G., Colangelo, N., Ihrig, D., &amp; Forstadt, L.  (2006).  Attributional Choices for Academic Success and Failure by Intellectually Gifted Student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Gifted Child Quarterly, 50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4), 283-294.  doi: 10.1177/001698620605000402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erry, D., &amp; O’Connor, E.  (2010).  Teacher-Child Relationships, and Social Skill Development across Middle Childhood: A child-by-Environment Analysis of Chang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Applied Developmental Psychology, 31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1-14.  Abstract retrieved from http://www.eric.ed.gov database.  (Accession No. ERIC #: EJ869961)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lase, J. J.  (1988).  The Politics of Favoritism:  A Qualitative analysis of the Teachers’ Perspectiv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ducational Administration Quarterly, 24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, 152-177.  doi: 10.1177/0013161X88024002005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loom, D., &amp; Golden, C.  (1982).  Literacy Learning, Classroom Processes, and Race: A Microanalytic Study of Two Desegregated Classroom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Black Studies, 13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, 207-226.  doi: 10.1177/002193478201300205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rantlinger, E.  (1985).  Low-Income Parents’ Perceptions of Favoritism in the School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Urban Education,20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, 82-102.  doi: 10.1177/004208598502000106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utterman, E.  (2007).  Playing Favorites?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Instructor, 116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6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39-41.  Abstract retrieved from http://www.eric.ed.gov database.  (Accession No. ERIC #: EJ792935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Daniels, H., Creese, A., Hey, V., Leonard, D., &amp; Smith, M.  (2001).  Gender and Learning: Equity, Equality and Pedagogy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Support for Learning, 16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3), 112-116. http://web.ebscohost.com.ez-proxy.brooklyn.cuny.edu:2048/ehost/pdf?vid=3&amp;hid=15&amp;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sid=748495d8-9949-4d6f-88a1-0a59bdd377b1%40sessionmgr13 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Davies, J. &amp; Brember, I. (1999).  Boys Outperforming Girls: an 8 –year cross-sectional study of attainment and self-esteem in Year 6.  Educational Psychology, 19(1), 5-16 http://web.ebscohost.com.ez-proxy.brooklyn.cuny.edu:2048/ehost/ pdf?vid=7&amp;hid=15&amp; sid=748495d8-9949-4d6f-88a1-0a59bdd377b1%40sessionmgr13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900" spc="-1" strike="noStrike">
                <a:solidFill>
                  <a:srgbClr val="f2f2f2"/>
                </a:solidFill>
                <a:latin typeface="Times New Roman"/>
              </a:rPr>
              <a:t>Egan, T. M., Cobb, B., &amp; Anastasia, M. 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009).  Think Tim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Staff Development,30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4) 40-2, 44-5.  http://vnweb.hwwilsonweb.com.ez-proxy.brooklyn cuny.edu:2048.hww.results.getResults.jhtml?_DARGS=/hww/results/results_common.jhtml.33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Gallagher, K. C., &amp; Mayer, K. (2008).  Enhancing Development and Learning through Teacher-Child Relationship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Young Children, 63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6), 80-87.  http://web.ebscohot.com.ez-proxy.brooklyn.cuny.edu:2048/ehost/pdf?vid=68&amp;hid=2&amp;sid=476aa9d4-1ba9-4838-9f18-002efa5b027e%40sessionmgr10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Haydon, T., Mancil, G. R., &amp; Van Loan, C.  (2009).  Using Opportunities to Respond in a General Education Classroom: A Case Study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ducation and Treatment of Children, 32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267-278.  doi: 10.1353/etc.0.0052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Houston, M. B., &amp; Bettencourt, L. A.  (1999).  But That’s Not Fair! An Exploratory Study of Student Perceptions of Instructor Fairnes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Marketing Education, 21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, 84-96.  doi: 10.1177/0273475399212002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Koepke, M. F., &amp; Harkins, D. A.  (2008).  Conflict in the Classroom: Gender Differences in the Teacher-Child Relationship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arly Education and Development 19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6), 843-864. doi: 10.1080/10409280802516108  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Levinson, B. A.  (1998).  The Moral Construction of Student Rights: Discourse and Judgment among Mexican Secondary School Student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Contemporary Ethnography, 27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, 45-84.  doi: 10.1177/089124198027001003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Logan, S., &amp; Johnston, R.  (2009).  Gender Differences in Reading Ability and Attitudes: Examining where These Differences Li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Research in Reading, 32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199-214.  doi: 10.111/j.1467-9817.2008.01389.x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McLaughlin, H. J.  (1991).  Reconciling Care and Control: Authority in Classroom Relationship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Teacher Education, 42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3), 182-195.                           doi: 10.1177/002248719104200304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Merrett, F. &amp; Wheldall, K.  (1992).  Teachers’ use of praise and reprimands to boys and girl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ducational Review 44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, 73-80.  http://web.ebscohost.com.ez-proxy.brooklyn.cuny.edu:2048/ehost/pdfviewer/pdfviewer?vid=13&amp;hid=119&amp;sid=927cbd44-efbc-4ec8-b93f-8fe85022209a%40sessionmgr114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Newberry, M., &amp; Davis, H. A.  (2008).  The Role of Elementary Teachers' Conceptions of Closeness to Students on Their Differential Behaviour in the Classroom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Teaching and Teacher Education: An International Journal of Research and Studies, 24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8), 1965-1985.  doi: 10.1016/j.tate.2008.02.015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Opoku-Amankwa, K.  (2009).  “Teacher Only Calls Her Pets”: Teacher’s Selective Attention and the Invisible Life of a Diverse Classroom in Ghana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Language and Education, 23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3)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249-262.  doi: 10.1080/09500780802582539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adker, M., Sadker, D. &amp; Klein, S.  (1991).  Chapter 7: The Issue of Gender in Elementary and Secondary Education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Review of Research in Education, 17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, 269-334.  doi: 10.3102/0091732X017001269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ockett, H.  (2009).  Dispositions as Virtues: The Complexity of the Construct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Journal of Teacher Education.  60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3), 291-303.  doi10.1177/0022487109335189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take, J. E. &amp; Katz, J. F.  (1982).  Teacher-Pupil Relationships in the Elementary School Classroom: Teacher-Gender and Pupil-Gender Differences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American Educational Research Journal, 19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3), 465-471.  doi:10.3102/00028312019003465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underland, J.  (2000).  New Understandings of Gender and Language Classroom Research: texts, teacher talk and student talk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Language Teaching Research 4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2), 149-173.  doi:  10.1177/136216880000400204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Yepez, M. E.  (1994).  An Observation of Gender-Specific Teacher Behavior in the ESL Classroom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Sex Roles, 30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1/2), 121-133.  http://web.ebscohost.com.ez-proxy.brooklyn.cuny.edu:2048/ehost/pdfviewer/pdfviewer?vid=13&amp;hid=119&amp;sid=927cbd44-efbc-4ec8-b93f-8fe85022209a%40sessionmgr114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Table of Contents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Introduction 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Statement of the Problem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Review of Related Literature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5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Statement of Hypothesis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7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3" marL="155196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Method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3" marL="155196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Instruments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9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3" marL="155196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Experimental Design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10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References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11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4C33-520C-42BD-B9A0-D7E34F8649AB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Introduction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Favoritism is part of life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Teachers hold a powerful position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Reasons for favoritism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A rose by any other name…a matter of semantics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Favoritism aka: selective attention; gender-race bias; differential teacher treatment; discrimination…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STATEMENT OF THE PROBLEM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d9f1"/>
                </a:solidFill>
                <a:latin typeface="Comic Sans MS"/>
              </a:rPr>
              <a:t>FAVORITISM :  </a:t>
            </a:r>
            <a:r>
              <a:rPr b="0" lang="en-US" sz="3300" spc="-1" strike="noStrike">
                <a:solidFill>
                  <a:srgbClr val="c6d9f1"/>
                </a:solidFill>
                <a:latin typeface="Comic Sans MS"/>
              </a:rPr>
              <a:t>The literature indicates  that failure to create close teacher-child relationships results in</a:t>
            </a:r>
            <a:endParaRPr b="0" lang="en-US" sz="33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egative impact on growth of social skills  and self-confidence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arginalized and differentiated teaching behaviors 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lower academic achievement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greater levels of conflict and aggression in the classroom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2FB-1164-48C9-B982-623A1E4BDE0B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12193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8edf"/>
                </a:solidFill>
                <a:latin typeface="Comic Sans MS"/>
              </a:rPr>
              <a:t>WHAT IS FAVORITISM</a:t>
            </a:r>
            <a:endParaRPr b="0" lang="en-US" sz="44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Comic Sans MS"/>
              </a:rPr>
              <a:t>Selective attention given by someone in power (i.e. teacher) to another less powerful person (i.e. student), selected from a group of two or more and where the student has a better outcome than another. 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2A5-3C1C-425D-9681-247A49221F6D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18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8edf"/>
                </a:solidFill>
                <a:latin typeface="Comic Sans MS"/>
              </a:rPr>
              <a:t>What does favoritism look like?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tle-teachers and even students may not be aware (Bloom &amp; Golden, 1982)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vorites: Studies show we make up our minds about people within seven seconds of meeting them (Butterman, 2007)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bridled and blatant-students are aware of the teacher’s pets and their standing in the classroom (Opoku-Amankwa, 2009)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52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8edf"/>
                </a:solidFill>
                <a:latin typeface="Comic Sans MS"/>
              </a:rPr>
              <a:t>POSSIBLE CAUSES OF FAVORITISM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WER: Teachers as the ‘authoritative identity’ (Opoku-Amankwa, 2009) or “despotic” (Levinson, 1998)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CONSCIOUSLY RELATE: student may remind us of ourselves or someone we know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THNICITY &amp; RACIAL BACKGROUND: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 are socialized to relate to each other based on race, class, and so on” (Butterman, 2007)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ority group students, both male and female, receive less teacher attention than majority group students (Brophy &amp; Good, 1974; Rubovits &amp; Maehr, 1973; M. Sadker &amp; Sadker, 1984)”  (Sadker, Sadker &amp; Klein, 1991). 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lture and ethnicity are associated with differences in aspects of children’s relationships with teachers…” (Gallagher &amp; Mayer, 2008) 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9280" y="1197000"/>
            <a:ext cx="9498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8edf"/>
                </a:solidFill>
                <a:latin typeface="Comic Sans MS"/>
              </a:rPr>
              <a:t>AVOIDING FAVORITISM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niels et al (2001) studied how “to treat all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ldren fairly”.  The research suggests that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chers must understand and reflect upon their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management style,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teaching strategies,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responsibility to grow as professionals,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power and recognize their impact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fluence ov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s.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Butterman, 2007; Egan &amp; Anastasia, 2009; Haydon et al, 2009; Newberry &amp; Davis, 2008)</a:t>
            </a:r>
            <a:endParaRPr b="0" lang="en-US" sz="22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5662-DB20-46B0-AA37-F9EBDD2828F6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HR1: X number of teachers may be unaware of practices of favoritism in their classroom and the impact on x number of students during a read-aloud session.  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A change in classroom management or practice may improve classroom equity and fairness and avoid the appearance of favoritism.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D46A-D383-44C5-A672-9CE43C9D5FCA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8:06:59Z</dcterms:created>
  <dc:creator>HP Authorized Customer</dc:creator>
  <dc:description/>
  <dc:language>en-US</dc:language>
  <cp:lastModifiedBy>HP Authorized Customer</cp:lastModifiedBy>
  <dcterms:modified xsi:type="dcterms:W3CDTF">2010-05-25T21:22:05Z</dcterms:modified>
  <cp:revision>2</cp:revision>
  <dc:subject/>
  <dc:title>FAVORITISM:  WHY DOESN’T TEACHER CALL ON ME?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671033</vt:lpwstr>
  </property>
</Properties>
</file>